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0AD8-1E81-4386-9680-26AA7BDE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6F0A-E7FC-437F-B48B-B4474FC4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22459-10C0-4BD8-A0C8-B0711306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FA730-9F28-43E2-A8A9-F2968D98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F1695-C1F9-46AC-8AB0-48F94024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CF19B-A436-42B9-A97E-67162508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59364-B507-4C54-9281-879804E2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3DA0A-B25D-4C6C-B51E-8D454D53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90E9C-FBFD-4F62-9146-4E80A76D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6DE4A-3BD2-4EC0-B6F6-F91388EB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AD444-DD51-43D7-B6A8-44A2EB6F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459A4-6101-40D7-BFEB-5B77F519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089A-C49E-498E-92E4-BA7B715F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9F08D-09A9-4775-B8D6-A9015BA0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83CFA-DEFE-4EC7-B8A2-7C34C38D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3603E-EE6B-44F0-B224-74D314D2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84E6B-00D4-49B2-99CE-975165B8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A8EDA-7AAF-412F-B2C7-23F5D212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904E6-BF09-4430-90A0-9EA84FA0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73F60-AAC8-45E1-BC29-D0CB72A9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FC1A5-4CCA-4CE8-9299-9D020B8A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04919-62F4-4904-9CED-4E09530F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84D82-07A8-48D9-B9E0-F65F1BDC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B2E2-4F0E-4EF2-B40B-B1B6600C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CF23E-1CC9-42FD-8570-82D8BB9C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426C1-9784-4FB1-8441-06E842D0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B4099-A1C1-4958-915D-E72100F3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7E6B8-C270-4160-8EE3-E9DC5D97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1C44D-E1CD-42EE-9616-DD979F25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DEE03-C237-4B1D-8716-190F729A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CEE41-DBF8-4395-90EF-59157663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4489A-0E43-40F7-B724-CA1B3897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ED859-2872-4C87-A51A-FC7A09DB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DE561-94C4-4F8B-92EB-C2BF744D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79B0-870D-4B98-BD6D-802D0232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13248-3F5B-413A-B8C4-B4AA8DED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B1681-1AE4-45A4-9435-3874174E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936E5-0EA0-4A4C-A5CA-399D11AF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79CDD-75FF-4945-ADD1-F0966EAE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E81A4-5829-4ACA-BF3F-7E00FA04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40AB7-72D0-4B46-9ADC-6E7F9CC9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C5BA9-BE32-48A1-985B-C88B5A01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9C20B-8434-4957-813E-2F1B43B7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767E1-E1C5-4361-8B5A-A3E0B740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DCEC2-7B13-4537-8708-7EDE8834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8BE6-78A5-4856-B5F2-01FEE0A6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09D9D-3DF3-4255-BD51-46ECB28D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B05E6-9F1E-4ADD-8019-D5EBB2F3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D9FF9-C071-4CC1-896B-48A25E24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332F8-6478-4238-A5AE-445E1DB8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C5A2C-E253-4563-88C5-7171B7E2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E4BF8A-7F5E-4F8E-9977-153050F6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E304FB-0E2A-4725-8C14-90964D03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F3CB14-6911-4BEC-8001-39C94CF1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E943A-CA40-4F9A-B156-925D6EAC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478DEA-A405-4AC7-8346-A02A917F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650D-01C2-4CE4-96DA-FA881F70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AC9817-995E-4B9E-B4A7-E70547D2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4FB68-35AD-410F-9E34-95821812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2AB0DC-CCD5-47D3-BA70-C81F2399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0CBBDD-A8F5-4932-AB26-AB7F73D9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244901-ABC5-498E-ACC5-24C5C397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432C82-6F82-4C19-BF88-4396FA0D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BD0894-84FB-4396-8DE8-2E88BEFB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13E293-7D22-4AE7-9884-4948E745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602EFB-255A-4DA7-A597-7FF4BD4D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830FE7-9D09-433D-85D2-3F812EEE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191B-8136-42A1-8342-B1EB2A8F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993F91-6812-40F7-B80B-41626383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213284-F300-4BBD-8609-9E3DAA01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3DB669-4CB4-43C4-8B7A-B1FB63F3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6AA590-526A-4E33-AD48-A86E241B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C14369-0773-45DC-AAF3-7282E648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82AE62-6002-4FB3-BB41-4DC38D0B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65F608-6932-450A-A007-21861E77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375F06-9A87-4CC7-8AE2-E42C8ED4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692C0E-B5AD-4ED0-8D6D-70E4FB5E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A4FAB6-B4BC-498B-9445-129A12DF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13CD-5A0A-4FC9-94C8-7565462F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2F8525-8F33-4460-A7FB-3A30A791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BFCE6A-165E-47D3-9196-0A526B58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257B5C-CA24-4D7D-A91A-21F2699B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144267-73D5-4770-B2BF-66F7D714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7C2D4E-08B9-4D46-A425-D5EEBC4D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44D31E-894F-411D-B203-F692B992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58C8F6-D630-46D6-A0BF-C59963F9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547277-48DA-4173-9967-242CE8FA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807C16-C711-424C-B82B-D06B8777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B7F40A-71B1-4219-89AF-51FFEFDE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C840-2574-48FD-A1C8-7BA52043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5C63B1-5D21-485E-A5BF-7FA56EE9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E88528-1133-4230-8C4C-335252C1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1B284F-089C-4D07-9C02-8187D054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EB8D6C-2A43-499D-891C-1D2994C8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BE4815-71CC-4184-9380-9C0768C4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089CAD-3CB9-490D-875A-98F7D7B3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E6F37C-3CA6-4AE7-A84C-C9215780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D5FE00-6C8E-4E7C-B393-AA2F6B50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F72A0F-3CB8-485D-8457-631BD931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3839A9-4B03-4384-BBB1-6297061B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D1ED-0007-4AA4-8FFA-4BE351B5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B5BC15-6799-474F-907D-510BBF8B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A74BF-6C07-4A96-B5DC-B06D11C7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78B83E-2949-40A7-8229-E6636039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D4102C-409D-4F34-830E-D2F43268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6DBEFC-0660-415F-94B5-0BF4F7BC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4578F7-CD25-40C1-B1A4-38375FC5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EC4D81-C6B6-4C5E-8DF5-4FAFB96A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CF0034-10A1-4B76-991A-E917DADE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4084A4-567A-4CEA-8668-C0FA1BC1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46420E-744F-428B-9250-94575A55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8EEA-B5B5-4725-8BFD-26E24FBB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AAD7-B5D4-497C-848D-26851C98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C0AB07-660D-4D0A-B5E8-2AD7C6A7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4F9DA4-3406-4773-A163-2A3B5069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ADF815-D1C5-4EA4-9D13-8F76A1C8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DE9D18-46A6-4E36-9FE5-F48BFC0A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3A9FFA-8FF9-459A-BCC1-34EF10C8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EF001C-4D1A-4821-805D-2976F461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554E91-7D1A-4FAB-8A88-44289390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1F5D39-0838-4F01-808F-3C1E13F0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766150-8600-486D-9D17-337A14B2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882115-037C-4C5A-8AA6-9C4DB263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517A-7DEE-47D8-ACCC-98225E27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12C21C-7E10-4AF9-B72A-B3C10DEA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FBC183-5664-46C5-A7D8-0891DC75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89A550-41BB-4B17-B067-5FCBFDFB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48761A-6283-403A-B28F-35909B32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2DB011-1A59-4D42-A7BC-69B5D1EA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AC21C3-F0DB-48FF-98E8-5E693EF1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48818D-D52A-4D5A-99D6-430E738D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B95067-259E-4BE3-9C35-BF0F6028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275D5B-C059-4672-B50B-36CFFDEF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678AFB-7284-42A3-9AA0-4E37B510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8B7B-5331-4F61-9858-5906C808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99B6C6-5DEE-4FB8-8C0E-965912E2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2F070B-4A42-4FD7-A01D-670DBA23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1566E1-9DB3-420F-BF3C-EC3C26A2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FCE5B4-913C-4A8A-B0A7-536310BA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E137C7-1D28-4640-A7A0-06B65A17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926F94-16F8-4908-B376-85878184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630042-353C-4B67-93F1-CD240C6C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277716-805E-42A5-B2EC-CD12E29C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B1A1A9-81C4-480C-B4BA-0EDC13F3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52C7A9-50CE-4EE0-8FB4-5C6004F9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079C-16F3-4D0F-96E1-31DA7DF0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309C8B-BE7F-42A2-983C-B4668838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5ED8FF-B37E-43C9-9DC2-C09E7D43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ABA0BC-5EF1-4DB9-8A30-D0137AF0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C23E4D-96E8-4F3C-940B-11283114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60C5EF-B87C-49D7-89A8-69A6FA7F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1AB57B-9782-48D6-A5D8-6E6BA0CB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30FB21-ACAA-4B9E-B337-790EB1BE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BD944B-F3F2-4F20-8E40-9795574E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CF559D-4EF5-4FE9-90BD-F7350106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AF57A3-45E6-4CC8-AF90-5B46DFBB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B184-CA27-44D4-9126-EEDEDCCC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EF4B1F-129B-4ADD-9006-32CBB0BA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AA88E6-837C-479B-8ADB-1A739FF4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B34F04-B400-45DC-A32F-024DA14A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86D865-7BEB-41CA-8D0A-CFFE61B8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668A69-A74D-43F2-BE1D-3E4D9464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9E67A3-CC15-4618-AE69-A77436C8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A1DCEF-381F-4425-8C59-BE7130DB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EE8596-7B5F-47FA-A33A-F1AC70C0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4D6226-418D-4455-A1D7-18E2D771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3B9137-16A7-4FA1-BF73-AD687683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7282B-85F8-43E8-B0C9-75189493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11D68B-2034-4667-A80B-2655EE66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45A5CB-D997-4D3B-9330-5E79E370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AFB6FC-6922-40F0-9035-813D404F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1C28E-6FAD-43CC-B39E-90C9BE4F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75E39-03D7-4B96-BF3B-B568D31E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6D715-BB65-43E5-A2E8-686B723A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0AD93-792D-422E-B1FB-748E737D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0A7D-F0EE-4717-95F5-38E2A85E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29C90-D181-4A95-AB95-0D548E4D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1C653-7857-45E1-B13B-7A5EF739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0305C-8976-4C97-910F-C6E21E9C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A48EA-EB24-41DF-B25E-28465F47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3171A-DBDD-4482-BAC3-4F096686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2A2FF-820F-467A-B7C8-09DFB1EB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38D8A-F2A0-41F0-890B-7D529C74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63940-BF0F-4E72-90F6-3FA68131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98C48-99B9-4B33-B937-21158ED5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F7E94-CACF-4951-9A68-27885F47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15A-FDD6-4A99-B964-925E8C10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6F267-D683-4299-8469-F756BEDB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C435A-D6E8-480F-8BCC-97E470BB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A7FE1-D584-4852-BF89-270EA421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40F41-BB72-4578-B246-9DFE6AB6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AE2AF-D40B-4E5A-A039-130BE2B6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F23BA-C0DE-4FF0-A247-DB068952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D4F34-0211-449B-8DA9-2AF6AE28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63B75-7133-4D19-9EB3-935A532C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E06DF-3E33-47C2-8D2D-50A46C80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B5F53-3BA0-4F4C-9F96-F546D7CE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3BF6-EFEE-4EAD-8727-0CFFDACE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A1CF5-3C25-48AE-AD9B-2140B03E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482CD-694C-4DEA-BFF9-4CB1409A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A885F-5EF5-40E1-98FE-35D3C634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8F5D4-1134-4C8D-BCA3-367F80F8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5BD5E-31D5-46D1-9E24-2E9E3975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1BD3E-EFE8-4C9C-809B-47D842EB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E42B2-48BE-44BB-B5C6-F824B100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1527E-F653-4FF3-907A-395C5821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A571C-F73F-4782-8CDE-35D069F0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29052-D501-424C-8CC8-5AEAA5D9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FF39-5BFC-4DA5-974D-1C90FC30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CEDD6-FAAF-4692-BC97-65482BA5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B60E6-EEBA-4D03-9633-F74BBA6A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4A33E-73AC-46D5-9C5A-6666901B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4E8DE-CBAE-41B0-BCA7-72B580C0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D93F2-A576-4DD4-99F0-C2180CA5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635E5-70B6-4A6C-B4F3-939350D8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20708-BA8A-4903-AC12-F6A7AAB1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4871E-E3E3-417F-8E01-E19A765A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4A207-EE4F-4C3A-82A6-E7EE32FA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122A4-94D2-4B4F-94C7-BACF06AC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B0C9-E5FB-4A85-8026-27ABC818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F527B-182E-44F9-834C-8ABAF965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5C1BB-A01C-4E12-B911-F8D59656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0E0E5-C987-4DA9-9157-485B5B7D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3F691-EEB0-4F9D-BC5A-AB2FF6F4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1B07A-DC4D-427C-A6F6-7E8C2E43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3862E-F60F-468E-8A76-C6AF3151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0A096-F2FB-4D12-8B41-4172F2E1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ACE99-3BF9-446A-AB25-554EEB6F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F25E2-578B-43EB-A6D4-49AA04B8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A6AD7-D12A-426A-BB61-2080C9AA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1AA9-4888-4219-A020-19CA116B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8F7E4-FFBA-4AEF-B6BE-DC0331C9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C0D4B-D983-4CA2-A702-E25BADC5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50270-2F7C-4057-885A-F4AF41D7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49049-FD3F-4088-B3A7-F7BC79C9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01E39-6655-4675-AD40-2E34886A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9D11B-F4AC-427E-ACE9-647B6C95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8121E-C108-4E0F-A291-9D3EA642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D97BF-3A07-45A4-A4EA-ED78E77C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8F2E2-C1AD-4990-AF4C-CE271F21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B2A48-3276-4D30-929D-DE1145E2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D94D-1F81-4FF3-BB7C-38199CA4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06A1C-F78A-4EEA-AD28-42306E5E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108B5-8532-4E76-A0D8-D302E329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F51C0-A3C7-4E1A-98F2-D40B61F8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05A07-2A13-4EBE-8644-07AACF9A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4EB1E-9FC7-4907-BFD9-CF9A01D2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24D37-C5C1-47FB-9F6B-861075F7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9970A-AB48-4ECD-B51E-0E9044C3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5F2DC-9FD8-4B08-BDAE-8A749212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34824-C6B8-4217-AE71-1C8B081E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501E3-D279-4E44-8A11-54FFA65D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0785-7BB4-4264-B01F-FA41DFEDED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91EA-066A-4088-BCDB-A29E6FBF85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00A0-3308-4F03-BD2C-F2DA273996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6CE3-DCC6-4C6E-9BEC-F69CCB4F2A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0283-912B-4EE2-AE3F-BA662E9FBC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9A49-AD4A-4794-8C13-5B3FC20A8C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9516-B83B-4E8E-8557-79F994F3A2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0BC7-0708-4F72-BD22-83F33A965D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1E56-2A96-4DE7-8965-7C985428E9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707A-F014-47AE-9D25-DDE06D3CF7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BE38-BE52-4E70-BE8F-D8192CEF3D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30B9-C629-437F-9B0D-C174C0C41B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FE98-D8AF-4DEE-9950-DC3EEBD8A8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9722-B23C-4DDC-B99E-FB8E2FEC93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A4DB-EE2D-4576-A28D-B15A2F8187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5574-5FEA-496F-ADE8-9626D17F5E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85AE-BE9D-47DB-943F-F353490A29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FE03-1232-4B14-982E-9988939BDF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6B24-135C-44FA-88CB-E94A6834CD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F6F8-6EBF-45C7-A3B7-EC8DE96244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3FD8-18BE-48B3-BD92-3F443FBD13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3B57-77D6-4419-A16D-4D558DD57E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8C96-3AC7-420D-AC0B-1422E06440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EDA2-84CD-4E89-86C6-862194C3CB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8E0E-C979-437C-98C8-55D6E3FD8D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BB97-541F-4726-B722-1F43555FD2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068C-6936-4AEA-ACB4-B67D77AF4D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4247-6EA1-4FA7-A99E-5F25373ADF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2279-F439-4906-BF20-E198583553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F28A-6CC9-4721-A84B-59CE2CA15B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ADAE-7503-4BCE-B0A4-A29BED7A46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F507-7B84-4F81-8C7E-CF4262E3DE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F520-CCE8-4855-81AD-CA0D344452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D714-D241-41A7-ACB0-B6173EC594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5E84-0F81-43EE-91F4-4418ADB4A7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4114-5171-452F-B042-FF7FB94200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47DE-71A2-4927-A1F5-F6B86AF226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19D5-4735-438A-9E87-F7B737F355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B9BA-950B-4379-AEE9-F71D5D89E7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E83A-80F3-45E8-8530-E4275BA74D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81320" y="3005280"/>
            <a:ext cx="458136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9880" y="685800"/>
            <a:ext cx="8544240" cy="58388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916360" y="1844640"/>
            <a:ext cx="71892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1908000" y="285264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1835280" y="4797360"/>
            <a:ext cx="718920" cy="8636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435640" y="5013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2411280" y="602136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4356000" y="6021360"/>
            <a:ext cx="100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619200" y="2009880"/>
            <a:ext cx="7905600" cy="28382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5219640" y="285264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6012000" y="4307040"/>
            <a:ext cx="1081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271440" y="95400"/>
            <a:ext cx="8188200" cy="65736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2556000" y="440856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2556000" y="5473800"/>
            <a:ext cx="1008000" cy="5047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2916360" y="6165720"/>
            <a:ext cx="1008000" cy="5050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6688080" y="440856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6688080" y="5473800"/>
            <a:ext cx="1008000" cy="5047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7"/>
          <a:stretch/>
        </p:blipFill>
        <p:spPr>
          <a:xfrm>
            <a:off x="7048440" y="6165720"/>
            <a:ext cx="100800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7352" descr=""/>
          <p:cNvPicPr/>
          <p:nvPr/>
        </p:nvPicPr>
        <p:blipFill>
          <a:blip r:embed="rId1"/>
          <a:stretch/>
        </p:blipFill>
        <p:spPr>
          <a:xfrm>
            <a:off x="309600" y="1886040"/>
            <a:ext cx="8524800" cy="3085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826920" y="3629160"/>
            <a:ext cx="424980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900000" y="4365720"/>
            <a:ext cx="6624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309600" y="797040"/>
            <a:ext cx="8524800" cy="58006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900000" y="3933720"/>
            <a:ext cx="489600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971640" y="4653000"/>
            <a:ext cx="489564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971640" y="5388120"/>
            <a:ext cx="489564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826920" y="6151680"/>
            <a:ext cx="60501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5300" descr=""/>
          <p:cNvPicPr/>
          <p:nvPr/>
        </p:nvPicPr>
        <p:blipFill>
          <a:blip r:embed="rId1"/>
          <a:stretch/>
        </p:blipFill>
        <p:spPr>
          <a:xfrm>
            <a:off x="271440" y="243000"/>
            <a:ext cx="8601120" cy="63720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3851280" y="3141720"/>
            <a:ext cx="122544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6300720" y="3097080"/>
            <a:ext cx="1225440" cy="4478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900000" y="5445000"/>
            <a:ext cx="554364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826920" y="6165720"/>
            <a:ext cx="74901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4276" descr=""/>
          <p:cNvPicPr/>
          <p:nvPr/>
        </p:nvPicPr>
        <p:blipFill>
          <a:blip r:embed="rId1"/>
          <a:stretch/>
        </p:blipFill>
        <p:spPr>
          <a:xfrm>
            <a:off x="328680" y="1209600"/>
            <a:ext cx="8486640" cy="44388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1042920" y="2924280"/>
            <a:ext cx="5761080" cy="4474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5761080" cy="4474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826920" y="4437000"/>
            <a:ext cx="5761080" cy="447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826920" y="5157720"/>
            <a:ext cx="576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2231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8448840" cy="2009880"/>
          </a:xfrm>
          <a:prstGeom prst="rect">
            <a:avLst/>
          </a:prstGeom>
          <a:ln w="0">
            <a:noFill/>
          </a:ln>
        </p:spPr>
      </p:pic>
      <p:pic>
        <p:nvPicPr>
          <p:cNvPr id="959" name="图片 52232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6762960" cy="19335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4211640" y="168588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4183200" y="2637000"/>
            <a:ext cx="43164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6948360" y="1700280"/>
            <a:ext cx="43200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6"/>
          <a:stretch/>
        </p:blipFill>
        <p:spPr>
          <a:xfrm>
            <a:off x="6948360" y="2608200"/>
            <a:ext cx="28764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7"/>
          <a:stretch/>
        </p:blipFill>
        <p:spPr>
          <a:xfrm>
            <a:off x="2268360" y="414972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8"/>
          <a:stretch/>
        </p:blipFill>
        <p:spPr>
          <a:xfrm>
            <a:off x="2254320" y="499896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9"/>
          <a:stretch/>
        </p:blipFill>
        <p:spPr>
          <a:xfrm>
            <a:off x="5219640" y="4149720"/>
            <a:ext cx="60480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0"/>
          <a:stretch/>
        </p:blipFill>
        <p:spPr>
          <a:xfrm>
            <a:off x="5219640" y="5013360"/>
            <a:ext cx="60480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1"/>
          <a:stretch/>
        </p:blipFill>
        <p:spPr>
          <a:xfrm>
            <a:off x="8317080" y="4149720"/>
            <a:ext cx="60480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2"/>
          <a:stretch/>
        </p:blipFill>
        <p:spPr>
          <a:xfrm>
            <a:off x="8345520" y="4897440"/>
            <a:ext cx="6048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24:0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